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32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35.png" ContentType="image/png"/>
  <Override PartName="/ppt/media/image9.jpeg" ContentType="image/jpeg"/>
  <Override PartName="/ppt/media/image3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25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934200" cy="9234488"/>
  <p:custShowLst>
    <p:custShow name="DM Summit 2012-01" id="0">
      <p:sldLst>
        <p:sld r:id="rId15"/>
        <p:sld r:id="rId16"/>
        <p:sld r:id="rId17"/>
        <p:sld r:id="rId20"/>
      </p:sldLst>
    </p:custShow>
    <p:custShow name="TPIO 2012-02-02" id="1">
      <p:sldLst>
        <p:sld r:id="rId15"/>
        <p:sld r:id="rId16"/>
        <p:sld r:id="rId18"/>
        <p:sld r:id="rId19"/>
        <p:sld r:id="rId20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8FD5-C64B-48D4-A100-AC6E21A7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1A5-083B-4C98-BEC6-3DF62032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: All NOAA data will be discoverable, accessible, documented, and preserved for all types of users and ap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28F-6418-4E99-B384-60E546EE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urpose: The purpose of this slide is to highlight the role and operating philosophy of the EDM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B = Science Advisory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ARWG = Data Archiving and Access Requirements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DMC was created as an evolution from the previously existing Data Management Committee (DM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rationale for the creation of the EDMC was to expand the scope from looking only at archive and preservation issues to the end-to-end lifecycle of environmental data manag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gnificant change from the previous Data Management Committee (DMC) structure is that the EDMC reports to both the NOSC and the CIO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working collaboratively with other CIO Council Committ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GIS and Enterprise Architecture Committ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B8CF-2209-4BEB-BE98-07A2C9BDD4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agram indicates where NOAA EDMC Procedural Directives (PDs) app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8BB4-C4DA-410E-8FCF-AF0413FA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BBA-2648-43AF-BF35-8F1164BE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EC5-B709-4B40-97EF-4B7E496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AC59C-BDD7-4899-9281-91432F8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01860-C7C7-43F5-BFB6-F9A76C9B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DD26C-505D-4C2F-89D2-BFF4767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30567-5394-48F6-A5A6-9319BCF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D0392-8013-4C7D-B92E-B5E7DB7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0F361-6298-4D71-8B97-C2FE8396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E9D3B-A77E-4E31-9E06-6E6B5C66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4F095-6C0E-45B9-96A0-120F8F8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835F6-23B7-45AA-81C8-D526B70D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B20F-A463-4B7C-8205-B681208B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53E-EC1A-44A2-92E0-D6A50A90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D3741-2730-450C-851C-029F76FD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09C69-08D7-4525-8FF6-C92177E6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8E4E-0DE8-4A5F-A0C7-DD4210FE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CA5AD-26B9-4579-9C3A-D47F67A2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7D590-2715-4B1A-ABB5-AC41C64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ACE24-4313-4744-BA56-423A331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1956-D9A8-418B-AE80-CE2788E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E9A1-E36C-47C9-B263-8FBD569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9038E-E618-456A-9D9C-6C5A827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E7C45-5EBB-4A6A-88A1-A5023C12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221-5C84-4737-AE28-B6346A3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E062-7CB1-44DE-82DE-2DEA2724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AB580-7CBD-4DD6-982E-1F9396EA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0F365-78D6-4C7D-AE90-09C2D99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1E3DB-E7F3-483D-B545-BA96249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FA30-908B-4DE4-91CD-415CA3C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BA28-D8A3-4AD1-A807-183BFED7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0B6AF-E37D-497A-ADDA-11E57ED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E434-70B7-4DC5-AC3D-5CA3EC2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CFC7E-3B2D-4567-8713-331F423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B7F7-A4F6-4583-BDED-2F47DEF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1F2-430A-458D-B132-A99C915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94FF9-D1BB-436D-96FD-9475946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95B3-F6DC-47D8-B7A9-006C480B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10C6D-0271-4DC3-B134-0514F6FC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DC6F8-7AAA-4762-9DBC-8BF8FCAE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ACA27-772F-46F2-9B41-A6D3404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31A4-732A-4851-939D-37524E85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B4105-87E0-4182-8AC8-9D1A276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4C478-9424-421A-A784-62F807A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7DE4E-258E-479E-9F09-CF1A6F4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5B44F-EB34-413B-8087-46BC375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DE0-4317-4CB7-8C8B-DD49847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5FEDC-1AFF-4E4C-9267-7593C56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AAA7-5D0C-4C6F-A2BF-05D1E68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2BF7A-E22B-449C-85F0-800413F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E0B33-0039-42DD-8B3B-D7593836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C1415-A68D-4FF8-B99B-F87BCA75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BD8-49F2-4643-AFBC-8B90E89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BCB-8DC9-4636-88E1-BABC19CF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715-4B38-480F-8795-5517049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8BF-B707-4B3D-A8DD-1D00FCB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95EA-80E5-4EFA-994B-7E3C366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83E-8B63-44AC-A159-DCC011EF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3BAC-D70C-464B-BF45-AEB24F1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A61-218D-4F1D-92DC-DFF6CD7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E0A-E405-4554-9010-39920A7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DEDD-4165-43AC-9E36-7D83CA7B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CB9-3E7C-4946-8B5C-AAD429C9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B141-E262-41A1-9DC3-864E0CA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0AB6-1C77-47A7-AC37-7AE1359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F430-3079-4121-B771-964EF871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25A8-4422-433D-9685-F7B0737D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E978-C3EC-411B-A07D-E9C9DA6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326-FC64-475C-86B2-22BBBC7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ACF2-96EF-446F-BF48-57D4410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C9B8-7152-4774-9DD8-BE54385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EA68-856B-42CF-8F28-F7997DE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685F-8481-419B-9893-FCB0A80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6900-2DD6-49E5-9EBC-D2F46BA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053C-576A-41B0-BADC-083E263B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2E97-4897-4661-A19A-EB1A9B05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9C7C-E73B-4897-BB70-08DCBEED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54C2-91DC-4403-B86D-82CBD50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F96F-50A5-4546-A9E5-1696DCF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9B4-E4A6-4147-A87B-80A1C55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2CAD-6A37-4CF8-8982-DAC4CA2E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02CE-0F87-45BA-8A4F-46F97D1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8833-AB7E-4A02-B5BD-09451CD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124E-9634-4F8F-AEDC-F77CB5E1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C5BB-5EAF-4C93-859D-6CBE613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F721-AF7F-4B45-B47A-9271ECD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FB9F-EFF6-4728-B80E-2895F06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4914-6120-4395-8691-8CE970D9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238B-0FAC-4C63-BA63-8F0FA5C2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52151-E6AD-418E-88D8-BA741890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A24-345E-41D1-B71D-2071D155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5186-D4F1-4778-8ADB-2D89FEE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03A7-7674-43C8-A2A4-D0759EC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FE34-A3FB-4BB0-91D0-FDD3577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83080-E0E3-4ECE-8FC4-F6E483F4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36E4E-8590-4AE1-A950-4F00A33F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C0B5-B9CE-4EBE-9E41-4E9445D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D109-E260-4201-B7FE-EDA5AD24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44BC-3A8C-4448-86F3-EFFCEC1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4512-1CC4-4FC4-9832-D26B3DF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A141-EA28-4507-A981-1D67CE4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EF2-D9C4-4EC1-9963-9604A1A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1C50-4DC3-43EF-9772-574FACB1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7DBA2-1777-4DE1-BB73-C5EA2B98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B4A8-5AD4-4FCB-9E9A-16A7154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CAC7-6F38-4325-AE85-10718C3D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3702-1A22-4CB1-B714-1A24ED2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3ED1F-C489-4C34-A7EA-CE33C62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30ECA-4AEA-4BCD-A627-CDEF80E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5ECE-79E6-4DB9-AC9D-370016B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D302-86B1-4F15-AC3C-8E782D0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30CF-A87F-492B-90AB-85A01C2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D6F-1B95-497F-A3FE-A03A576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2210-E9C5-4E4E-B130-01C4733B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CEC89-93E2-4B0B-8C95-77B15755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27BA-AF6A-4CEC-93BA-7BA90DC5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5CDF-18D6-4B54-8F04-09739516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CA294-6180-4276-8353-97867591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CEE8-A316-47E5-9172-367EC11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FFAA-6D2C-4509-8795-D7588D2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F445-CF73-4008-A8AD-BD69E4A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73005-036B-400C-91A6-0BE078F7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196A-108F-4900-A8D0-F60550F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32D-28AA-4148-A1FA-82AC2F0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1A6E-8CB3-424E-89D9-5244A24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0578-13DC-4505-B37C-9FFE338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5DCD-5BFA-4FA6-A25D-0A03BE29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C3CC-AFBA-4841-8AA3-EB3029B8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63626-4532-4740-8354-0862BD5C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EBF4-0292-4DBA-8E34-0A5F01C6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9775B-709D-4221-9875-E53B4240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48CE-AE5C-4AE8-895C-657511DD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FB25-2979-4659-A841-E5DEE05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C9BE-FFF0-4AFF-AFAF-DCCB707A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A53-7E28-4661-8E42-4E36952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15E5-FD62-4E03-9C69-7F17CCA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83D99-0962-48B3-B5D5-A2B6C0D8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A62B-E2E3-45BC-AD8A-DDD860D5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F0AA5-F8A7-48CB-98C2-90654E0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17C42-E6D4-49C5-B925-F33916C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2CDC1-4368-4D7A-A6C7-652937DF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328B-F4E7-42E7-A8C8-89B5C9D3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E4DF-B97C-45C3-950F-1CE670E6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EBD02-A892-411B-BE02-9993F91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1153-0D8B-4EC8-BDA3-CB334EDC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0291C-28CF-498A-A39B-65A8C95C6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E1C-E90F-45DF-9FA4-7F1D91BE1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94D-AE90-4BEB-B61E-DF67D969C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AC4-F764-4E92-BFB2-AC1DC03AD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FF42-9577-43B7-8691-210E55BB4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987-BC9B-467F-8681-19476380A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877-4252-4101-9003-7C228B743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16CC-BBE0-4DE6-9407-846AB1C68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5529-59C4-4BC0-B647-BD28A90E1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C90-2BCA-4F35-BB7B-3EE5BC1B3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7A9-79ED-461A-9AB1-60058A650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286D-938F-49A3-B745-61C1040A9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B49-8F07-4AC2-9DE8-5E7E111C5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5DD-D483-422B-B22E-2F537CFD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FC11-C4DA-40A8-828D-DA597F4E74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D8CB-0BB4-4ACA-9BA9-5BDA5029C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0A92-B068-4B63-88DF-A528F1E4C8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BC88-167C-4136-911A-C444A8599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75A-354C-4F14-8C01-2BFD49CAB7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0A6-C3EF-4720-8579-74165DE92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5B18-DD47-47DF-BF8F-B1C4B9430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459-A7B3-4883-9C95-571067EC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7DE-7E3D-488F-9FCE-C6A0ADAC6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508E-DD84-4080-ACAB-A9121F9DC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nosc.noaa.gov/EDMC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image" Target="../media/image25.wmf"/><Relationship Id="rId26" Type="http://schemas.openxmlformats.org/officeDocument/2006/relationships/slideLayout" Target="../slideLayouts/slideLayout73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MC Procedural Dir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42640" y="4419360"/>
            <a:ext cx="70102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AA Environmental Data Management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nosc.noaa.gov/EDMC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3FB9-CB1C-4CD8-B624-082742C87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4592-9AE7-4243-8291-2839708C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Sharing Policy for NOAA 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s that data collected or created under a NOAA Grant or Cooperative Agreement be made available to the publ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 timely manner, and within 2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s for legal, policy or security reas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exibility for funding program manager to adjust or negot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ant proposals must include data sharing pla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lan will be made public upon awarding of gr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ilure to share data will be considered in future proposal evalu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65D-5925-4A31-BA3C-DE3F8F3CD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364-177B-43E1-B415-89418D357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dtd.gov.gif"/>
          <p:cNvPicPr/>
          <p:nvPr/>
        </p:nvPicPr>
        <p:blipFill>
          <a:blip r:embed="rId1"/>
          <a:stretch/>
        </p:blipFill>
        <p:spPr>
          <a:xfrm>
            <a:off x="6242040" y="3929040"/>
            <a:ext cx="2028960" cy="1279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5" descr="GoogleEarth screenshot.jpg"/>
          <p:cNvPicPr/>
          <p:nvPr/>
        </p:nvPicPr>
        <p:blipFill>
          <a:blip r:embed="rId2"/>
          <a:stretch/>
        </p:blipFill>
        <p:spPr>
          <a:xfrm>
            <a:off x="6242040" y="222120"/>
            <a:ext cx="2102040" cy="1281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3"/>
          <a:stretch/>
        </p:blipFill>
        <p:spPr>
          <a:xfrm>
            <a:off x="6242040" y="603360"/>
            <a:ext cx="1778040" cy="1280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9" descr="ERDDAP screenshot.jpg"/>
          <p:cNvPicPr/>
          <p:nvPr/>
        </p:nvPicPr>
        <p:blipFill>
          <a:blip r:embed="rId4"/>
          <a:stretch/>
        </p:blipFill>
        <p:spPr>
          <a:xfrm>
            <a:off x="6242040" y="907920"/>
            <a:ext cx="1792440" cy="12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2" descr="Ferret screenshot.jpg"/>
          <p:cNvPicPr/>
          <p:nvPr/>
        </p:nvPicPr>
        <p:blipFill>
          <a:blip r:embed="rId5"/>
          <a:stretch/>
        </p:blipFill>
        <p:spPr>
          <a:xfrm>
            <a:off x="6242040" y="1212840"/>
            <a:ext cx="2017800" cy="12812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3" descr="nmfs_InPort_screenshot_sm.JPG"/>
          <p:cNvPicPr/>
          <p:nvPr/>
        </p:nvPicPr>
        <p:blipFill>
          <a:blip r:embed="rId6"/>
          <a:srcRect l="0" t="8261" r="16356" b="20653"/>
          <a:stretch/>
        </p:blipFill>
        <p:spPr>
          <a:xfrm>
            <a:off x="6242040" y="1822320"/>
            <a:ext cx="1935000" cy="1281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7"/>
          <a:stretch/>
        </p:blipFill>
        <p:spPr>
          <a:xfrm>
            <a:off x="6242040" y="2203560"/>
            <a:ext cx="1986120" cy="12808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Climatepage.jpg"/>
          <p:cNvPicPr/>
          <p:nvPr/>
        </p:nvPicPr>
        <p:blipFill>
          <a:blip r:embed="rId8"/>
          <a:stretch/>
        </p:blipFill>
        <p:spPr>
          <a:xfrm>
            <a:off x="6242040" y="2813040"/>
            <a:ext cx="2103480" cy="12812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NIDISpage.jpg"/>
          <p:cNvPicPr/>
          <p:nvPr/>
        </p:nvPicPr>
        <p:blipFill>
          <a:blip r:embed="rId9"/>
          <a:stretch/>
        </p:blipFill>
        <p:spPr>
          <a:xfrm>
            <a:off x="6242040" y="3193920"/>
            <a:ext cx="1881360" cy="128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10"/>
          <a:stretch/>
        </p:blipFill>
        <p:spPr>
          <a:xfrm>
            <a:off x="6242040" y="3575160"/>
            <a:ext cx="1990800" cy="128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7" descr="GEOSS Portal screenshot.jpg"/>
          <p:cNvPicPr/>
          <p:nvPr/>
        </p:nvPicPr>
        <p:blipFill>
          <a:blip r:embed="rId11"/>
          <a:stretch/>
        </p:blipFill>
        <p:spPr>
          <a:xfrm>
            <a:off x="6242040" y="3956040"/>
            <a:ext cx="2030400" cy="1281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"/>
          <p:cNvPicPr/>
          <p:nvPr/>
        </p:nvPicPr>
        <p:blipFill>
          <a:blip r:embed="rId12"/>
          <a:srcRect l="28002" t="0" r="28002" b="49409"/>
          <a:stretch/>
        </p:blipFill>
        <p:spPr>
          <a:xfrm>
            <a:off x="6242040" y="4322880"/>
            <a:ext cx="1979640" cy="1279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3" descr="ArcExplorer.png"/>
          <p:cNvPicPr/>
          <p:nvPr/>
        </p:nvPicPr>
        <p:blipFill>
          <a:blip r:embed="rId13"/>
          <a:stretch/>
        </p:blipFill>
        <p:spPr>
          <a:xfrm>
            <a:off x="6242040" y="4870440"/>
            <a:ext cx="2011320" cy="14828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47"/>
          <p:cNvSpPr/>
          <p:nvPr/>
        </p:nvSpPr>
        <p:spPr>
          <a:xfrm>
            <a:off x="4113360" y="762120"/>
            <a:ext cx="2135160" cy="6095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8" descr="next-generation-weather-satellite-goes-o.jpg"/>
          <p:cNvPicPr/>
          <p:nvPr/>
        </p:nvPicPr>
        <p:blipFill>
          <a:blip r:embed="rId14"/>
          <a:srcRect l="7114" t="0" r="14665" b="0"/>
          <a:stretch/>
        </p:blipFill>
        <p:spPr>
          <a:xfrm>
            <a:off x="762120" y="1131840"/>
            <a:ext cx="3352680" cy="47624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on for NOAA 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5"/>
          <a:stretch/>
        </p:blipFill>
        <p:spPr>
          <a:xfrm>
            <a:off x="3198960" y="5257800"/>
            <a:ext cx="915840" cy="1371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16"/>
          <a:stretch/>
        </p:blipFill>
        <p:spPr>
          <a:xfrm>
            <a:off x="685800" y="4648320"/>
            <a:ext cx="1425600" cy="1225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6" descr="MaxT1_northeast.png"/>
          <p:cNvPicPr/>
          <p:nvPr/>
        </p:nvPicPr>
        <p:blipFill>
          <a:blip r:embed="rId17"/>
          <a:srcRect l="0" t="3947" r="0" b="10524"/>
          <a:stretch/>
        </p:blipFill>
        <p:spPr>
          <a:xfrm>
            <a:off x="2057400" y="556272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2" descr="weatherradar650.jpg"/>
          <p:cNvPicPr/>
          <p:nvPr/>
        </p:nvPicPr>
        <p:blipFill>
          <a:blip r:embed="rId18"/>
          <a:stretch/>
        </p:blipFill>
        <p:spPr>
          <a:xfrm>
            <a:off x="2733840" y="106668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4" descr="Teledyne_Webb_Slocum_Glider_2011-03-15_ver_0-01.jpg"/>
          <p:cNvPicPr/>
          <p:nvPr/>
        </p:nvPicPr>
        <p:blipFill>
          <a:blip r:embed="rId19"/>
          <a:stretch/>
        </p:blipFill>
        <p:spPr>
          <a:xfrm>
            <a:off x="609480" y="5867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5" descr="Sidescan_Nav-O.png"/>
          <p:cNvPicPr/>
          <p:nvPr/>
        </p:nvPicPr>
        <p:blipFill>
          <a:blip r:embed="rId20"/>
          <a:stretch/>
        </p:blipFill>
        <p:spPr>
          <a:xfrm>
            <a:off x="2430360" y="3505320"/>
            <a:ext cx="1684440" cy="1371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3" descr="MarineMammalTag.jpg"/>
          <p:cNvPicPr/>
          <p:nvPr/>
        </p:nvPicPr>
        <p:blipFill>
          <a:blip r:embed="rId21"/>
          <a:stretch/>
        </p:blipFill>
        <p:spPr>
          <a:xfrm>
            <a:off x="685800" y="3505320"/>
            <a:ext cx="1371600" cy="979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Documents and Settings\jdelabea\Local Settings\Temporary Internet Files\Content.IE5\1EYTWK7O\MC900431643[1].png"/>
          <p:cNvPicPr/>
          <p:nvPr/>
        </p:nvPicPr>
        <p:blipFill>
          <a:blip r:embed="rId22"/>
          <a:srcRect l="8881" t="4451" r="6676" b="6676"/>
          <a:stretch/>
        </p:blipFill>
        <p:spPr>
          <a:xfrm>
            <a:off x="4383000" y="1057320"/>
            <a:ext cx="1130400" cy="1189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8" descr="NCDC_building.jpg"/>
          <p:cNvPicPr/>
          <p:nvPr/>
        </p:nvPicPr>
        <p:blipFill>
          <a:blip r:embed="rId23"/>
          <a:stretch/>
        </p:blipFill>
        <p:spPr>
          <a:xfrm>
            <a:off x="4383000" y="5745240"/>
            <a:ext cx="1676520" cy="1189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C:\Documents and Settings\jdelabea\Local Settings\Temporary Internet Files\Content.IE5\1EYTWK7O\MC900432599[1].png"/>
          <p:cNvPicPr/>
          <p:nvPr/>
        </p:nvPicPr>
        <p:blipFill>
          <a:blip r:embed="rId24"/>
          <a:srcRect l="16677" t="4174" r="16657" b="12483"/>
          <a:stretch/>
        </p:blipFill>
        <p:spPr>
          <a:xfrm>
            <a:off x="4383000" y="4095720"/>
            <a:ext cx="951120" cy="1189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C:\Documents and Settings\jdelabea\Local Settings\Temporary Internet Files\Content.IE5\MHX77F5D\MC900056607[1].wmf"/>
          <p:cNvPicPr/>
          <p:nvPr/>
        </p:nvPicPr>
        <p:blipFill>
          <a:blip r:embed="rId25"/>
          <a:stretch/>
        </p:blipFill>
        <p:spPr>
          <a:xfrm>
            <a:off x="4435560" y="2620800"/>
            <a:ext cx="1660320" cy="1189080"/>
          </a:xfrm>
          <a:prstGeom prst="rect">
            <a:avLst/>
          </a:prstGeom>
          <a:ln w="0">
            <a:noFill/>
          </a:ln>
        </p:spPr>
      </p:pic>
      <p:sp>
        <p:nvSpPr>
          <p:cNvPr id="544" name="Date Placeholder 2"/>
          <p:cNvSpPr/>
          <p:nvPr/>
        </p:nvSpPr>
        <p:spPr>
          <a:xfrm>
            <a:off x="8947800" y="541008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7142-63ED-4223-B5ED-2E86128B6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705520" y="65980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82D-9DF2-49E1-BADE-A2BDB3E0D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6"/>
          <p:cNvSpPr/>
          <p:nvPr/>
        </p:nvSpPr>
        <p:spPr>
          <a:xfrm>
            <a:off x="1531800" y="762120"/>
            <a:ext cx="25840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NOAA data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51"/>
          <p:cNvSpPr/>
          <p:nvPr/>
        </p:nvSpPr>
        <p:spPr>
          <a:xfrm>
            <a:off x="6248520" y="6221520"/>
            <a:ext cx="25905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ll types of users an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Rounded Rectangle 8"/>
          <p:cNvGrpSpPr/>
          <p:nvPr/>
        </p:nvGrpSpPr>
        <p:grpSpPr>
          <a:xfrm>
            <a:off x="3943440" y="804960"/>
            <a:ext cx="1871640" cy="852480"/>
            <a:chOff x="3943440" y="804960"/>
            <a:chExt cx="1871640" cy="852480"/>
          </a:xfrm>
        </p:grpSpPr>
        <p:pic>
          <p:nvPicPr>
            <p:cNvPr id="549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3943440" y="804960"/>
              <a:ext cx="18716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041720" y="874800"/>
              <a:ext cx="16826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OA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ounded Rectangle 10"/>
          <p:cNvGrpSpPr/>
          <p:nvPr/>
        </p:nvGrpSpPr>
        <p:grpSpPr>
          <a:xfrm>
            <a:off x="1695600" y="3833640"/>
            <a:ext cx="2931840" cy="1390680"/>
            <a:chOff x="1695600" y="3833640"/>
            <a:chExt cx="2931840" cy="1390680"/>
          </a:xfrm>
        </p:grpSpPr>
        <p:pic>
          <p:nvPicPr>
            <p:cNvPr id="55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695600" y="3833640"/>
              <a:ext cx="293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09720" y="4019400"/>
              <a:ext cx="270504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DM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vironmental Data Management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(1 voting rep per L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Rounded Rectangle 11"/>
          <p:cNvGrpSpPr/>
          <p:nvPr/>
        </p:nvGrpSpPr>
        <p:grpSpPr>
          <a:xfrm>
            <a:off x="4896000" y="2000160"/>
            <a:ext cx="2492280" cy="1114560"/>
            <a:chOff x="4896000" y="2000160"/>
            <a:chExt cx="2492280" cy="1114560"/>
          </a:xfrm>
        </p:grpSpPr>
        <p:pic>
          <p:nvPicPr>
            <p:cNvPr id="555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4896000" y="2000160"/>
              <a:ext cx="2492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5000760" y="2168640"/>
              <a:ext cx="2288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O Counc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ief Information Officer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Rounded Rectangle 12"/>
          <p:cNvGrpSpPr/>
          <p:nvPr/>
        </p:nvGrpSpPr>
        <p:grpSpPr>
          <a:xfrm>
            <a:off x="2225520" y="2000160"/>
            <a:ext cx="2249640" cy="1114560"/>
            <a:chOff x="2225520" y="2000160"/>
            <a:chExt cx="2249640" cy="1114560"/>
          </a:xfrm>
        </p:grpSpPr>
        <p:pic>
          <p:nvPicPr>
            <p:cNvPr id="558" name="Rounded Rectangle 12" descr=""/>
            <p:cNvPicPr/>
            <p:nvPr/>
          </p:nvPicPr>
          <p:blipFill>
            <a:blip r:embed="rId4"/>
            <a:stretch/>
          </p:blipFill>
          <p:spPr>
            <a:xfrm>
              <a:off x="2225520" y="2000160"/>
              <a:ext cx="2249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2330280" y="2168640"/>
              <a:ext cx="204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O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AA Observing System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Rounded Rectangle 14"/>
          <p:cNvGrpSpPr/>
          <p:nvPr/>
        </p:nvGrpSpPr>
        <p:grpSpPr>
          <a:xfrm>
            <a:off x="1695600" y="5467320"/>
            <a:ext cx="3084480" cy="1390680"/>
            <a:chOff x="1695600" y="5467320"/>
            <a:chExt cx="3084480" cy="1390680"/>
          </a:xfrm>
        </p:grpSpPr>
        <p:pic>
          <p:nvPicPr>
            <p:cNvPr id="561" name="Rounded Rectangle 14" descr=""/>
            <p:cNvPicPr/>
            <p:nvPr/>
          </p:nvPicPr>
          <p:blipFill>
            <a:blip r:embed="rId5"/>
            <a:stretch/>
          </p:blipFill>
          <p:spPr>
            <a:xfrm>
              <a:off x="1695600" y="5467320"/>
              <a:ext cx="30844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1811160" y="5651640"/>
              <a:ext cx="28544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 Management Integration 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(50 members across NOA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DMC Relation to Other NOAA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405-B33C-4D98-9813-9F1F18367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Rounded Rectangle 24"/>
          <p:cNvGrpSpPr/>
          <p:nvPr/>
        </p:nvGrpSpPr>
        <p:grpSpPr>
          <a:xfrm>
            <a:off x="5200560" y="4071960"/>
            <a:ext cx="1638360" cy="957240"/>
            <a:chOff x="5200560" y="4071960"/>
            <a:chExt cx="1638360" cy="957240"/>
          </a:xfrm>
        </p:grpSpPr>
        <p:pic>
          <p:nvPicPr>
            <p:cNvPr id="566" name="Rounded Rectangle 24" descr=""/>
            <p:cNvPicPr/>
            <p:nvPr/>
          </p:nvPicPr>
          <p:blipFill>
            <a:blip r:embed="rId6"/>
            <a:stretch/>
          </p:blipFill>
          <p:spPr>
            <a:xfrm>
              <a:off x="5200560" y="4071960"/>
              <a:ext cx="16383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299200" y="4156200"/>
              <a:ext cx="1441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7"/>
          <p:cNvGrpSpPr/>
          <p:nvPr/>
        </p:nvGrpSpPr>
        <p:grpSpPr>
          <a:xfrm>
            <a:off x="6413400" y="5450040"/>
            <a:ext cx="2559240" cy="1176120"/>
            <a:chOff x="6413400" y="5450040"/>
            <a:chExt cx="2559240" cy="1176120"/>
          </a:xfrm>
        </p:grpSpPr>
        <p:pic>
          <p:nvPicPr>
            <p:cNvPr id="569" name="Rounded Rectangle 27" descr=""/>
            <p:cNvPicPr/>
            <p:nvPr/>
          </p:nvPicPr>
          <p:blipFill>
            <a:blip r:embed="rId7"/>
            <a:stretch/>
          </p:blipFill>
          <p:spPr>
            <a:xfrm>
              <a:off x="6413400" y="5450040"/>
              <a:ext cx="2559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603840" y="5564160"/>
              <a:ext cx="218448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prise 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Date Placeholder 22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B9A-E5C0-48E8-9122-AD4015C2D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3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8"/>
          <p:cNvSpPr/>
          <p:nvPr/>
        </p:nvSpPr>
        <p:spPr>
          <a:xfrm flipH="1">
            <a:off x="3352320" y="1585800"/>
            <a:ext cx="1530360" cy="53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1"/>
          <p:cNvSpPr/>
          <p:nvPr/>
        </p:nvSpPr>
        <p:spPr>
          <a:xfrm>
            <a:off x="4883040" y="1585800"/>
            <a:ext cx="1262160" cy="53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3"/>
          <p:cNvSpPr/>
          <p:nvPr/>
        </p:nvSpPr>
        <p:spPr>
          <a:xfrm flipH="1">
            <a:off x="3161880" y="3038400"/>
            <a:ext cx="190440" cy="92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5"/>
          <p:cNvSpPr/>
          <p:nvPr/>
        </p:nvSpPr>
        <p:spPr>
          <a:xfrm flipH="1">
            <a:off x="6019920" y="3038400"/>
            <a:ext cx="125280" cy="10764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 flipV="1">
            <a:off x="6145200" y="3038040"/>
            <a:ext cx="1550880" cy="2475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73"/>
          <p:cNvSpPr/>
          <p:nvPr/>
        </p:nvSpPr>
        <p:spPr>
          <a:xfrm flipV="1">
            <a:off x="3162240" y="3038040"/>
            <a:ext cx="2982960" cy="92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75"/>
          <p:cNvSpPr/>
          <p:nvPr/>
        </p:nvSpPr>
        <p:spPr>
          <a:xfrm>
            <a:off x="3162240" y="5146560"/>
            <a:ext cx="76320" cy="446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77"/>
          <p:cNvSpPr/>
          <p:nvPr/>
        </p:nvSpPr>
        <p:spPr>
          <a:xfrm flipV="1">
            <a:off x="4572000" y="4533480"/>
            <a:ext cx="685800" cy="2052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79"/>
          <p:cNvSpPr/>
          <p:nvPr/>
        </p:nvSpPr>
        <p:spPr>
          <a:xfrm>
            <a:off x="4572000" y="4554360"/>
            <a:ext cx="1981080" cy="14781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Rounded Rectangle 82"/>
          <p:cNvGrpSpPr/>
          <p:nvPr/>
        </p:nvGrpSpPr>
        <p:grpSpPr>
          <a:xfrm>
            <a:off x="92160" y="2328840"/>
            <a:ext cx="2022480" cy="1401840"/>
            <a:chOff x="92160" y="2328840"/>
            <a:chExt cx="2022480" cy="1401840"/>
          </a:xfrm>
        </p:grpSpPr>
        <p:pic>
          <p:nvPicPr>
            <p:cNvPr id="583" name="Rounded Rectangle 82" descr=""/>
            <p:cNvPicPr/>
            <p:nvPr/>
          </p:nvPicPr>
          <p:blipFill>
            <a:blip r:embed="rId8"/>
            <a:stretch/>
          </p:blipFill>
          <p:spPr>
            <a:xfrm>
              <a:off x="92160" y="2328840"/>
              <a:ext cx="2022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16000" y="2425680"/>
              <a:ext cx="1778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ARW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ata Access &amp; Archiving Requirements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Rounded Rectangle 83"/>
          <p:cNvGrpSpPr/>
          <p:nvPr/>
        </p:nvGrpSpPr>
        <p:grpSpPr>
          <a:xfrm>
            <a:off x="171360" y="669960"/>
            <a:ext cx="1943280" cy="1146240"/>
            <a:chOff x="171360" y="669960"/>
            <a:chExt cx="1943280" cy="1146240"/>
          </a:xfrm>
        </p:grpSpPr>
        <p:pic>
          <p:nvPicPr>
            <p:cNvPr id="586" name="Rounded Rectangle 83" descr=""/>
            <p:cNvPicPr/>
            <p:nvPr/>
          </p:nvPicPr>
          <p:blipFill>
            <a:blip r:embed="rId9"/>
            <a:stretch/>
          </p:blipFill>
          <p:spPr>
            <a:xfrm>
              <a:off x="171360" y="669960"/>
              <a:ext cx="1943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6120" y="809640"/>
              <a:ext cx="17337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cience Advisory Bo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Straight Connector 86"/>
          <p:cNvSpPr/>
          <p:nvPr/>
        </p:nvSpPr>
        <p:spPr>
          <a:xfrm flipH="1">
            <a:off x="1104840" y="1743120"/>
            <a:ext cx="38160" cy="619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89"/>
          <p:cNvSpPr/>
          <p:nvPr/>
        </p:nvSpPr>
        <p:spPr>
          <a:xfrm>
            <a:off x="1104840" y="3657600"/>
            <a:ext cx="647640" cy="8967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92"/>
          <p:cNvSpPr/>
          <p:nvPr/>
        </p:nvSpPr>
        <p:spPr>
          <a:xfrm flipV="1">
            <a:off x="2057400" y="1211400"/>
            <a:ext cx="1947960" cy="4104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roach: Policy and Im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DB0-13E6-4398-835F-18AEE1D91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FB7-0852-4770-9096-64167D0D8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own Arrow Callout 7"/>
          <p:cNvSpPr/>
          <p:nvPr/>
        </p:nvSpPr>
        <p:spPr>
          <a:xfrm>
            <a:off x="228600" y="1371600"/>
            <a:ext cx="4278240" cy="349236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D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vironmental Data Manage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al Directive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policy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Up Arrow Callout 8"/>
          <p:cNvSpPr/>
          <p:nvPr/>
        </p:nvSpPr>
        <p:spPr>
          <a:xfrm>
            <a:off x="4853160" y="2236680"/>
            <a:ext cx="3941640" cy="3275280"/>
          </a:xfrm>
          <a:prstGeom prst="upArrowCallout">
            <a:avLst>
              <a:gd name="adj1" fmla="val 25007"/>
              <a:gd name="adj2" fmla="val 25005"/>
              <a:gd name="adj3" fmla="val 25000"/>
              <a:gd name="adj4" fmla="val 70041"/>
            </a:avLst>
          </a:pr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Management Integra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 collaborations to share solutions and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1727280" y="48560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0"/>
          <p:cNvSpPr/>
          <p:nvPr/>
        </p:nvSpPr>
        <p:spPr>
          <a:xfrm>
            <a:off x="6202440" y="18763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traight Connector 15"/>
          <p:cNvSpPr/>
          <p:nvPr/>
        </p:nvSpPr>
        <p:spPr>
          <a:xfrm flipV="1">
            <a:off x="1143000" y="1066320"/>
            <a:ext cx="3390840" cy="1295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22"/>
          <p:cNvSpPr/>
          <p:nvPr/>
        </p:nvSpPr>
        <p:spPr>
          <a:xfrm flipV="1">
            <a:off x="3124080" y="1066320"/>
            <a:ext cx="140976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8"/>
          <p:cNvSpPr/>
          <p:nvPr/>
        </p:nvSpPr>
        <p:spPr>
          <a:xfrm flipV="1">
            <a:off x="4114800" y="1905120"/>
            <a:ext cx="419040" cy="3047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25"/>
          <p:cNvSpPr/>
          <p:nvPr/>
        </p:nvSpPr>
        <p:spPr>
          <a:xfrm flipH="1" flipV="1">
            <a:off x="4533480" y="1066320"/>
            <a:ext cx="83844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28"/>
          <p:cNvSpPr/>
          <p:nvPr/>
        </p:nvSpPr>
        <p:spPr>
          <a:xfrm flipH="1" flipV="1">
            <a:off x="4533840" y="1066680"/>
            <a:ext cx="2400480" cy="2268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MC Procedural Directi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nosc.noaa.gov/EDMC/nao_212-15_procedural_directives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FE7-AF80-468D-BC73-0CC01BCB2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E54-8E01-454D-B119-C9C6E8FF4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lded Corner 9"/>
          <p:cNvSpPr/>
          <p:nvPr/>
        </p:nvSpPr>
        <p:spPr>
          <a:xfrm>
            <a:off x="762120" y="1066680"/>
            <a:ext cx="7543800" cy="83844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253f"/>
                </a:solidFill>
                <a:uFillTx/>
                <a:latin typeface="Calibri"/>
              </a:rPr>
              <a:t>Data Management Planning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Plan, in advance, how you will preserve, document and distribute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lded Corner 10"/>
          <p:cNvSpPr/>
          <p:nvPr/>
        </p:nvSpPr>
        <p:spPr>
          <a:xfrm>
            <a:off x="228600" y="2362320"/>
            <a:ext cx="1828800" cy="160020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Archiv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What to archive, how to submit to arc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lded Corner 12"/>
          <p:cNvSpPr/>
          <p:nvPr/>
        </p:nvSpPr>
        <p:spPr>
          <a:xfrm>
            <a:off x="4495680" y="2819520"/>
            <a:ext cx="1752840" cy="2016000"/>
          </a:xfrm>
          <a:prstGeom prst="foldedCorner">
            <a:avLst>
              <a:gd name="adj" fmla="val 16666"/>
            </a:avLst>
          </a:prstGeom>
          <a:solidFill>
            <a:srgbClr val="ddd9c3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Access &amp;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What on-line services to use so your data can be found and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lded Corner 13"/>
          <p:cNvSpPr/>
          <p:nvPr/>
        </p:nvSpPr>
        <p:spPr>
          <a:xfrm>
            <a:off x="3200400" y="4952880"/>
            <a:ext cx="1828800" cy="1828800"/>
          </a:xfrm>
          <a:prstGeom prst="foldedCorner">
            <a:avLst>
              <a:gd name="adj" fmla="val 16666"/>
            </a:avLst>
          </a:prstGeom>
          <a:solidFill>
            <a:srgbClr val="ddd9c3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C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Use unique identifiers to allow data to be referenced and tra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lded Corner 14"/>
          <p:cNvSpPr/>
          <p:nvPr/>
        </p:nvSpPr>
        <p:spPr>
          <a:xfrm>
            <a:off x="6934320" y="2403360"/>
            <a:ext cx="1828800" cy="186372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Sharing by NOAA Gran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State how you will share data, and share within 2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lded Corner 11"/>
          <p:cNvSpPr/>
          <p:nvPr/>
        </p:nvSpPr>
        <p:spPr>
          <a:xfrm>
            <a:off x="2209680" y="2819520"/>
            <a:ext cx="1828800" cy="198108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How to apply ISO 19115 metadata for discovery, use &amp; understa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6"/>
          <p:cNvSpPr/>
          <p:nvPr/>
        </p:nvSpPr>
        <p:spPr>
          <a:xfrm>
            <a:off x="5658120" y="59101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n preparation, 2012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9"/>
          <p:cNvSpPr/>
          <p:nvPr/>
        </p:nvSpPr>
        <p:spPr>
          <a:xfrm flipH="1" flipV="1">
            <a:off x="5372280" y="4835160"/>
            <a:ext cx="1604880" cy="107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20"/>
          <p:cNvSpPr/>
          <p:nvPr/>
        </p:nvSpPr>
        <p:spPr>
          <a:xfrm flipH="1" flipV="1">
            <a:off x="5029200" y="5866920"/>
            <a:ext cx="612720" cy="2113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extBox 20" descr=""/>
          <p:cNvPicPr/>
          <p:nvPr/>
        </p:nvPicPr>
        <p:blipFill>
          <a:blip r:embed="rId1"/>
          <a:stretch/>
        </p:blipFill>
        <p:spPr>
          <a:xfrm>
            <a:off x="725400" y="-6480"/>
            <a:ext cx="5224680" cy="687096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5"/>
          <p:cNvSpPr/>
          <p:nvPr/>
        </p:nvSpPr>
        <p:spPr>
          <a:xfrm>
            <a:off x="1600200" y="4627440"/>
            <a:ext cx="4191120" cy="21942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3"/>
          <p:cNvSpPr/>
          <p:nvPr/>
        </p:nvSpPr>
        <p:spPr>
          <a:xfrm>
            <a:off x="1600200" y="1603440"/>
            <a:ext cx="4191120" cy="2971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1"/>
          <p:cNvSpPr/>
          <p:nvPr/>
        </p:nvSpPr>
        <p:spPr>
          <a:xfrm>
            <a:off x="1600200" y="19080"/>
            <a:ext cx="4170240" cy="1523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Plann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111480" y="1623600"/>
            <a:ext cx="2362320" cy="2925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Quality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talog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ser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ward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sage Trac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nal Dis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tent Placeholder 4"/>
          <p:cNvSpPr/>
          <p:nvPr/>
        </p:nvSpPr>
        <p:spPr>
          <a:xfrm>
            <a:off x="3111480" y="31680"/>
            <a:ext cx="2362320" cy="1462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8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F59B-18D6-42DB-B6EB-D2C36C14C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9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ACDF-206B-4611-9DBD-132040C12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0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lded Corner 11"/>
          <p:cNvSpPr/>
          <p:nvPr/>
        </p:nvSpPr>
        <p:spPr>
          <a:xfrm>
            <a:off x="6472800" y="2299680"/>
            <a:ext cx="189720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lded Corner 12"/>
          <p:cNvSpPr/>
          <p:nvPr/>
        </p:nvSpPr>
        <p:spPr>
          <a:xfrm>
            <a:off x="6799680" y="851760"/>
            <a:ext cx="124344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M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lded Corner 13"/>
          <p:cNvSpPr/>
          <p:nvPr/>
        </p:nvSpPr>
        <p:spPr>
          <a:xfrm>
            <a:off x="6333480" y="3202920"/>
            <a:ext cx="214092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Sharing by G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lded Corner 14"/>
          <p:cNvSpPr/>
          <p:nvPr/>
        </p:nvSpPr>
        <p:spPr>
          <a:xfrm>
            <a:off x="6649560" y="3987000"/>
            <a:ext cx="154368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hat-to-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6"/>
          <p:cNvSpPr/>
          <p:nvPr/>
        </p:nvSpPr>
        <p:spPr>
          <a:xfrm flipH="1" flipV="1">
            <a:off x="4724280" y="533160"/>
            <a:ext cx="2067120" cy="461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7"/>
          <p:cNvSpPr/>
          <p:nvPr/>
        </p:nvSpPr>
        <p:spPr>
          <a:xfrm flipH="1">
            <a:off x="4968720" y="2443320"/>
            <a:ext cx="1492560" cy="22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8"/>
          <p:cNvSpPr/>
          <p:nvPr/>
        </p:nvSpPr>
        <p:spPr>
          <a:xfrm flipH="1" flipV="1">
            <a:off x="4935600" y="3276720"/>
            <a:ext cx="1387440" cy="71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9"/>
          <p:cNvSpPr/>
          <p:nvPr/>
        </p:nvSpPr>
        <p:spPr>
          <a:xfrm flipH="1" flipV="1">
            <a:off x="4892400" y="3581280"/>
            <a:ext cx="1747800" cy="54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0"/>
          <p:cNvSpPr/>
          <p:nvPr/>
        </p:nvSpPr>
        <p:spPr>
          <a:xfrm flipH="1">
            <a:off x="5638680" y="995400"/>
            <a:ext cx="1152720" cy="75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31"/>
          <p:cNvSpPr/>
          <p:nvPr/>
        </p:nvSpPr>
        <p:spPr>
          <a:xfrm flipH="1">
            <a:off x="5029200" y="4130640"/>
            <a:ext cx="161136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lded Corner 34"/>
          <p:cNvSpPr/>
          <p:nvPr/>
        </p:nvSpPr>
        <p:spPr>
          <a:xfrm>
            <a:off x="6482520" y="2756880"/>
            <a:ext cx="1910880" cy="288720"/>
          </a:xfrm>
          <a:prstGeom prst="foldedCorner">
            <a:avLst>
              <a:gd name="adj" fmla="val 16666"/>
            </a:avLst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iscovery and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ded Corner 35"/>
          <p:cNvSpPr/>
          <p:nvPr/>
        </p:nvSpPr>
        <p:spPr>
          <a:xfrm>
            <a:off x="6801120" y="5957280"/>
            <a:ext cx="1272240" cy="288720"/>
          </a:xfrm>
          <a:prstGeom prst="foldedCorner">
            <a:avLst>
              <a:gd name="adj" fmla="val 16666"/>
            </a:avLst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36"/>
          <p:cNvSpPr/>
          <p:nvPr/>
        </p:nvSpPr>
        <p:spPr>
          <a:xfrm flipH="1">
            <a:off x="4800240" y="2900520"/>
            <a:ext cx="1671480" cy="71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27"/>
          <p:cNvSpPr/>
          <p:nvPr/>
        </p:nvSpPr>
        <p:spPr>
          <a:xfrm flipH="1">
            <a:off x="4876560" y="2900520"/>
            <a:ext cx="1595160" cy="299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ontent Placeholder 4"/>
          <p:cNvSpPr/>
          <p:nvPr/>
        </p:nvSpPr>
        <p:spPr>
          <a:xfrm>
            <a:off x="3111480" y="4664160"/>
            <a:ext cx="2362320" cy="2174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duc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p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39"/>
          <p:cNvSpPr/>
          <p:nvPr/>
        </p:nvSpPr>
        <p:spPr>
          <a:xfrm flipH="1">
            <a:off x="4724280" y="6100920"/>
            <a:ext cx="2068560" cy="147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32160" y="5688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licability of EDMC Directives to Data Life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Management Planning Procedural Dir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s managers of all data production projects and systems to write data management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observing systems, projects, programs, surveys, collections, interviews, investigations, studies, and resear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 is to be written before starting data acquisi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 is to be followed and maintained throughout data lifecyc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tains a template with questions to be addressed by data production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mplate will be available as Google Form on NOAA U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AA UMS will serve as repository for DM Pl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isting plans can be referenced &amp; summariz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investments will have DM Plan reviewed by NOAA IT Review Bo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D66-9D8C-4369-AC65-3C802EDD7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6E7-3E37-41C3-840E-485857681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dure for Scientific Records Appraisal and Archive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process used to identify and appraise scientific records for NOAA archiv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pplies to accepting, rejecting , retaining or disposing of scientific reco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vers observations, derived products, and environmental forecasts, warnings and advisor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vides guidance regarding relevant attributes of data, formal approvals, external review, and public com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relevant ter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8027-07F5-45EA-9AB3-69983D7F8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2758-5343-438F-90AB-C44D876E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Documentation Procedural Dir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s documentation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NOAA data collections, and products derived from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s that provide NOAA data and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llections and derived products funded by NOA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active and planned data collection or product generation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es metadata content standard (ISO 19115) and representation standard (ISO 19139 XM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plains types and uses of metadata and other 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roles &amp; respon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7ED7-5259-4919-9CC6-F7EDCA339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8A2-EA3C-46B3-A7BC-F272B5907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4:41:19Z</dcterms:created>
  <dc:creator>Jeff de La Beaujardiere</dc:creator>
  <dc:description/>
  <dc:language>en-US</dc:language>
  <cp:lastModifiedBy>Adam Steckel</cp:lastModifiedBy>
  <dcterms:modified xsi:type="dcterms:W3CDTF">2012-03-16T18:26:33Z</dcterms:modified>
  <cp:revision>266</cp:revision>
  <dc:subject>Summary of content and rationale of EDMC PDs</dc:subject>
  <dc:title>EDMC Procedural Directives</dc:title>
</cp:coreProperties>
</file>